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0E9BF-C745-41AA-BA93-6C23BD53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79B4-E758-4260-B35F-3C317B262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A78E3-FD5B-4B4E-8EE7-E065F5EBC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B6F48-C228-40E0-AD37-1BE798CAF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37F24-7208-4696-A212-146C43A52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3CDB4-244D-4A19-94BD-7A71014F4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51AB7-BFF5-4F2C-B600-AB65E68B1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830BE-337C-44E2-AF90-FAAF6850B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68447-70D2-4698-95F2-9D16F193C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D6F2C-B718-4D95-8994-DA6D9FAF3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CB0EA-21A7-413F-8FB3-7976466A4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FA946-4262-404A-A164-FCBE6140E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164D8-8B7E-436B-B286-5F9A2AB7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1FF57-1369-4D95-8860-1523286B9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3BB9E-AAEF-4AA8-9B99-07B5C9DCA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763B9-0CFA-4B0D-81E9-F2440435A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DD463-0EE2-4568-9011-B7F3D2D38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540E4864-45A3-4268-A21D-196A7AC5B0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2A6C437-1216-4AAE-B9CC-8D332EBC46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EA8B8DDE-49DF-468D-A627-E059175DA6E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4E5F09C-CEAF-467F-9B4D-BA3BD2C8E3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70B250E-FEF5-4EFB-80A3-419AF5E803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465BD-2674-4BE3-90DD-2D936A38A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16A56FBB-F9C4-431F-845F-3DD2534249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949DB81-6693-469F-B255-114007E4451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0DEF191-7505-4BF3-B21E-7CBFB403AD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56E8E77-72FF-4EDD-B083-987A420197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6792FA1-64DC-4F94-9DBA-BA8F677BA4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46B00B00-069D-4237-91FA-10B385F15D5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2E0A5A80-BB64-4607-9DAA-9531890F036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62DF9-6D90-4EA3-8262-EFB3CC508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DABEB-E699-4986-ABA5-8A4C855A3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024A2-C889-47C8-B372-5F338303D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7416-931A-4330-9881-5B79F50E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A2D74-06D2-44E9-8E3F-8DB943284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79940-27D5-4EBD-AD81-70DB20E10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05CAD-39EA-40CF-BCFA-634CAF2B6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C47A7-6ED7-47B0-B4AD-C959802E4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5680F-640E-4BAC-B56C-C55AB3DDD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5EC4D-D3B1-45B5-8A70-E2CBF6079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2F7B5-8F20-45D0-BAA8-BF723A6B7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F0BBF3-8B37-49C3-B1BF-73B054904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7DE60-28C4-4D04-ADC7-259EF7D27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676625-3605-4D46-B1F5-04ED2975F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ECD22-BEB0-4003-8FBD-4849C180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E72A5-FA05-4CDF-9729-E22FB3658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9CD61-8BD0-45EC-AC2D-A68C5A411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1EBCD-6F4F-4E63-87CE-D19A9A1F7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AEA2A-ED53-45EA-9574-CF118BC8A8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BB6B62-6CE0-42C6-ADA0-FBDF825AB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844FB-CCC7-48BF-9049-D3598B6C8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039BA-BB27-4DC8-9D61-174FCD400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9E36C-9DBF-4B99-A420-FB0256A94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DBFFE-5D33-4562-86F1-186D082A5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8774A6-B285-4A19-8352-51C256866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439E-381F-43C2-BE97-7F8D18C2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7CFC9-149B-4386-9E33-932AC0D2EE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887BCB-D413-450E-BE33-014B0F55B3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2FA87-F346-4BB9-A1CB-942A2A79F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926CF-4DDE-41E7-B0F4-1C5D8F883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39235-5D29-4094-B583-97186B48B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A9AAC-E670-4C10-9F08-912713DB8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5B94A-1BF3-41C2-BCCC-EB7BF3610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3BC24-2068-4310-8D19-1FF90281A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F01F9-7AA6-43A4-A169-1ED45AC83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11CC8-6D48-4977-943C-5DFAB9AFD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A378-5DE6-41D6-BD27-C8F86D84A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A8738-3439-43E6-A412-C6C7C307A4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E45DE-A550-4396-8715-BA69F484E8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FBF7BE-781C-4686-852B-2E86F1F934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42939D5-A2A3-49FE-89AC-A85D897AFC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7F0B1B-C146-4445-AF06-A0F4EA39C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C8BFE1-EEB8-4D07-BCBD-36AB07E2B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7B3339-04BB-4151-BCB9-1BE93ECEF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A345EF-2FD8-497D-9C80-4EE8E3F1A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D4A3AB-B760-482E-B43B-349D3E850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FD4851-21E1-4135-8908-650BC0534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55FC-97E8-4E63-9E92-782B61A0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371E62-5320-4ADA-92DE-47F85B692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BAD2309-89B2-41E5-A539-B24FF0578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553DD8-A911-4CBD-81C5-7B1B6FF6ED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F82B8CB-E8E2-4F43-A190-9EBD3B4FF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45A70A8-B6D2-44C7-805C-4D3D56EAF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55B491-2988-440D-B23D-4AD0ED1AED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CC62C4-C51D-48B3-BE0F-6DCA8D9B4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27CDA-97A0-4BEE-BFCE-CC70B23BA7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4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A49D5D-281F-4C0F-B406-AA1132355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CF925-0590-4F33-8C96-9AA1832B6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E9C5-D88F-4C30-A117-0536FEB3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E25AE-0811-48B0-96A2-D1E931027D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CD7B3-2A99-47FB-A586-D2612A906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F2856-A3DC-4BE5-A38F-C1EAE9884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3BBE7-80A9-4DA5-A5E3-B25EC8575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E34C9-8EEC-4E23-B456-C662C955D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0BEB61-B7B4-42CE-9DFB-292EB10304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58B7D2-D174-4523-8B04-F4C0759502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5BD2-B318-431E-A5F7-7D73E50A7E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F6B0-F617-419F-926D-75FE89460F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12" name=""/>
          <p:cNvGrpSpPr/>
          <p:nvPr/>
        </p:nvGrpSpPr>
        <p:grpSpPr>
          <a:xfrm>
            <a:off x="-103320" y="1308240"/>
            <a:ext cx="9350640" cy="5632560"/>
            <a:chOff x="-103320" y="1308240"/>
            <a:chExt cx="9350640" cy="5632560"/>
          </a:xfrm>
        </p:grpSpPr>
        <p:sp>
          <p:nvSpPr>
            <p:cNvPr id="21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5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5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25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5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26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6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26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6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eaeaea"/>
                </a:solidFill>
                <a:latin typeface="Arial"/>
              </a:endParaRPr>
            </a:p>
          </p:txBody>
        </p:sp>
        <p:sp>
          <p:nvSpPr>
            <p:cNvPr id="27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27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7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8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28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28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28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8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8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28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8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8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29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29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29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0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0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0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0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0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31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31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31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1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1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1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2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2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2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2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33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3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3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33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3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3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3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3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4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4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4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4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5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5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5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6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6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6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6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7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37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37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7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8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38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38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38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8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9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39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39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0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0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40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40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40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1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42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42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42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428"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EF4C-B957-4A5F-B4E0-A9D8FC1AA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469" name=""/>
          <p:cNvGrpSpPr/>
          <p:nvPr/>
        </p:nvGrpSpPr>
        <p:grpSpPr>
          <a:xfrm>
            <a:off x="-105120" y="1311120"/>
            <a:ext cx="9350640" cy="5632560"/>
            <a:chOff x="-105120" y="1311120"/>
            <a:chExt cx="9350640" cy="5632560"/>
          </a:xfrm>
        </p:grpSpPr>
        <p:sp>
          <p:nvSpPr>
            <p:cNvPr id="47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1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51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1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51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2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52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2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eaeaea"/>
                </a:solidFill>
                <a:latin typeface="Arial"/>
              </a:endParaRPr>
            </a:p>
          </p:txBody>
        </p:sp>
        <p:sp>
          <p:nvSpPr>
            <p:cNvPr id="53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3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3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54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4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4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4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4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4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4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4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5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5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5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6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6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56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57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57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7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7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7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7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58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8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58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58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eaeaea"/>
                </a:solidFill>
                <a:latin typeface="Arial"/>
              </a:endParaRPr>
            </a:p>
          </p:txBody>
        </p:sp>
        <p:sp>
          <p:nvSpPr>
            <p:cNvPr id="59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59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59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59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9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0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0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0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1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1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1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1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2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2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2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2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3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eaeaea"/>
                </a:solidFill>
                <a:latin typeface="Arial"/>
              </a:endParaRPr>
            </a:p>
          </p:txBody>
        </p:sp>
        <p:sp>
          <p:nvSpPr>
            <p:cNvPr id="63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3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3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63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64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eaeaea"/>
                </a:solidFill>
                <a:latin typeface="Arial"/>
              </a:endParaRPr>
            </a:p>
          </p:txBody>
        </p:sp>
        <p:sp>
          <p:nvSpPr>
            <p:cNvPr id="65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5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5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5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6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66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6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66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7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eaeaea"/>
                </a:solidFill>
                <a:latin typeface="Arial"/>
              </a:endParaRPr>
            </a:p>
          </p:txBody>
        </p:sp>
        <p:sp>
          <p:nvSpPr>
            <p:cNvPr id="67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7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7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8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8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8110-31DF-421F-8EA3-E478FD0A8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25" name=""/>
          <p:cNvGrpSpPr/>
          <p:nvPr/>
        </p:nvGrpSpPr>
        <p:grpSpPr>
          <a:xfrm>
            <a:off x="1440" y="0"/>
            <a:ext cx="9149040" cy="6851520"/>
            <a:chOff x="1440" y="0"/>
            <a:chExt cx="9149040" cy="6851520"/>
          </a:xfrm>
        </p:grpSpPr>
        <p:sp>
          <p:nvSpPr>
            <p:cNvPr id="72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29" name=""/>
            <p:cNvGrpSpPr/>
            <p:nvPr/>
          </p:nvGrpSpPr>
          <p:grpSpPr>
            <a:xfrm>
              <a:off x="457200" y="0"/>
              <a:ext cx="8093160" cy="6851520"/>
              <a:chOff x="457200" y="0"/>
              <a:chExt cx="8093160" cy="6851520"/>
            </a:xfrm>
          </p:grpSpPr>
          <p:sp>
            <p:nvSpPr>
              <p:cNvPr id="73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4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54" name=""/>
            <p:cNvGrpSpPr/>
            <p:nvPr/>
          </p:nvGrpSpPr>
          <p:grpSpPr>
            <a:xfrm>
              <a:off x="1440" y="622440"/>
              <a:ext cx="9141120" cy="2493720"/>
              <a:chOff x="1440" y="622440"/>
              <a:chExt cx="9141120" cy="2493720"/>
            </a:xfrm>
          </p:grpSpPr>
          <p:sp>
            <p:nvSpPr>
              <p:cNvPr id="75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6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63"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64"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65"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5743-994B-46A7-8F95-93C4F1E42BF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6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03" name=""/>
          <p:cNvGrpSpPr/>
          <p:nvPr/>
        </p:nvGrpSpPr>
        <p:grpSpPr>
          <a:xfrm>
            <a:off x="0" y="0"/>
            <a:ext cx="9148320" cy="6851520"/>
            <a:chOff x="0" y="0"/>
            <a:chExt cx="9148320" cy="6851520"/>
          </a:xfrm>
        </p:grpSpPr>
        <p:sp>
          <p:nvSpPr>
            <p:cNvPr id="80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07" name=""/>
            <p:cNvGrpSpPr/>
            <p:nvPr/>
          </p:nvGrpSpPr>
          <p:grpSpPr>
            <a:xfrm>
              <a:off x="455400" y="0"/>
              <a:ext cx="8092440" cy="6851520"/>
              <a:chOff x="455400" y="0"/>
              <a:chExt cx="8092440" cy="6851520"/>
            </a:xfrm>
          </p:grpSpPr>
          <p:sp>
            <p:nvSpPr>
              <p:cNvPr id="80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1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2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2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32" name=""/>
            <p:cNvGrpSpPr/>
            <p:nvPr/>
          </p:nvGrpSpPr>
          <p:grpSpPr>
            <a:xfrm>
              <a:off x="0" y="622440"/>
              <a:ext cx="9140760" cy="2493720"/>
              <a:chOff x="0" y="622440"/>
              <a:chExt cx="9140760" cy="2493720"/>
            </a:xfrm>
          </p:grpSpPr>
          <p:sp>
            <p:nvSpPr>
              <p:cNvPr id="83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3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3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4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4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4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4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A519-31CC-4807-B50F-124F798B99F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0"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81"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7ADF-DB75-41A6-ABC8-5F025419D4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82" name=""/>
          <p:cNvGrpSpPr/>
          <p:nvPr/>
        </p:nvGrpSpPr>
        <p:grpSpPr>
          <a:xfrm>
            <a:off x="0" y="0"/>
            <a:ext cx="9140760" cy="6850080"/>
            <a:chOff x="0" y="0"/>
            <a:chExt cx="9140760" cy="6850080"/>
          </a:xfrm>
        </p:grpSpPr>
        <p:grpSp>
          <p:nvGrpSpPr>
            <p:cNvPr id="883" name=""/>
            <p:cNvGrpSpPr/>
            <p:nvPr/>
          </p:nvGrpSpPr>
          <p:grpSpPr>
            <a:xfrm>
              <a:off x="2743200" y="3540240"/>
              <a:ext cx="6392880" cy="3309840"/>
              <a:chOff x="2743200" y="3540240"/>
              <a:chExt cx="6392880" cy="3309840"/>
            </a:xfrm>
          </p:grpSpPr>
          <p:sp>
            <p:nvSpPr>
              <p:cNvPr id="88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8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92"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30" name=""/>
          <p:cNvGrpSpPr/>
          <p:nvPr/>
        </p:nvGrpSpPr>
        <p:grpSpPr>
          <a:xfrm>
            <a:off x="0" y="0"/>
            <a:ext cx="9140760" cy="6850080"/>
            <a:chOff x="0" y="0"/>
            <a:chExt cx="9140760" cy="6850080"/>
          </a:xfrm>
        </p:grpSpPr>
        <p:grpSp>
          <p:nvGrpSpPr>
            <p:cNvPr id="931" name=""/>
            <p:cNvGrpSpPr/>
            <p:nvPr/>
          </p:nvGrpSpPr>
          <p:grpSpPr>
            <a:xfrm>
              <a:off x="2743200" y="3540240"/>
              <a:ext cx="6392880" cy="3309840"/>
              <a:chOff x="2743200" y="3540240"/>
              <a:chExt cx="6392880" cy="3309840"/>
            </a:xfrm>
          </p:grpSpPr>
          <p:sp>
            <p:nvSpPr>
              <p:cNvPr id="93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3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3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3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940"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41"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42"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52D0-851E-443A-AEB8-DEC3B9C541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05264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besity relation to diabetes</a:t>
            </a:r>
            <a:endParaRPr b="0" lang="en-US" sz="5400" spc="-1" strike="noStrike">
              <a:solidFill>
                <a:srgbClr val="ccecff"/>
              </a:solidFill>
              <a:latin typeface="Arial"/>
            </a:endParaRPr>
          </a:p>
        </p:txBody>
      </p:sp>
      <p:pic>
        <p:nvPicPr>
          <p:cNvPr id="980" name="" descr=""/>
          <p:cNvPicPr/>
          <p:nvPr/>
        </p:nvPicPr>
        <p:blipFill>
          <a:blip r:embed="rId1"/>
          <a:stretch/>
        </p:blipFill>
        <p:spPr>
          <a:xfrm>
            <a:off x="3276720" y="3789360"/>
            <a:ext cx="285732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lusion</a:t>
            </a:r>
            <a:endParaRPr b="0" lang="en-US" sz="4400" spc="-1" strike="noStrike">
              <a:solidFill>
                <a:srgbClr val="dfdef6"/>
              </a:solidFill>
              <a:latin typeface="Arial"/>
            </a:endParaRPr>
          </a:p>
        </p:txBody>
      </p:sp>
      <p:sp>
        <p:nvSpPr>
          <p:cNvPr id="9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can see from the data there was a correlation between these two variables. The factors I stated in my hypothesis may be the cause, but my independent variable wasn’t completely independent, because even people that aren’t obese can get diabetes, but the larger portion of people who do are over weight and I think that’s what gives these two variables their corre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IOGRAPHY</a:t>
            </a:r>
            <a:endParaRPr b="0" lang="en-US" sz="4400" spc="-1" strike="noStrike">
              <a:solidFill>
                <a:srgbClr val="ccecff"/>
              </a:solidFill>
              <a:latin typeface="Arial"/>
            </a:endParaRPr>
          </a:p>
        </p:txBody>
      </p:sp>
      <p:sp>
        <p:nvSpPr>
          <p:cNvPr id="10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obese population in 1994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obese population in 2008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increased obesity rates from 1994-2009 in Canad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diabetes internationally in 2005.</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http://cansim2.statcan.gc.ca/cgi-win/cnsmcgi.pgm- percentage of people with diabetes Canada, 1994.</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468360" y="26028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question: Is there a relationship between the obesity rates and the amount of people with diabe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 there will be a moderate correlation between these two variables, due to the increasing obesity rates  from the ever growing fast food restaurants and the fact that people that are over weight can get type two diabe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539640" y="98100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I choose this question: I decided to use this data for my project because it was readily available and to show the importance of these two things for our popul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ing Bias: Some sampling bias could come from the data being skewed do to changes in population size, not having all the years of data for both variables. but it's clear over the years what pattern emer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direct data</a:t>
            </a:r>
            <a:endParaRPr b="1" lang="en-US" sz="4400" spc="-1" strike="noStrike">
              <a:solidFill>
                <a:srgbClr val="e5e5ff"/>
              </a:solidFill>
              <a:latin typeface="Garamond"/>
            </a:endParaRPr>
          </a:p>
        </p:txBody>
      </p:sp>
      <p:sp>
        <p:nvSpPr>
          <p:cNvPr id="985"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4 3%/ 722,491</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6 3.2%/ 787,924</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1998 3.5%/ 865,908</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0 4.1%/ 1,063,698</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3 4.6%/ 1,222,882</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tal percentage and population of Canada with diabetes 2005 4.9%/ 1,325,12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rect data continued</a:t>
            </a:r>
            <a:endParaRPr b="1" lang="en-US" sz="4400" spc="-1" strike="noStrike">
              <a:solidFill>
                <a:srgbClr val="e5e5ff"/>
              </a:solidFill>
              <a:latin typeface="Garamond"/>
            </a:endParaRPr>
          </a:p>
        </p:txBody>
      </p:sp>
      <p:sp>
        <p:nvSpPr>
          <p:cNvPr id="9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4 12.7%/ 2,687,691</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6 11.9%/ </a:t>
            </a:r>
            <a:r>
              <a:rPr b="1" lang="en-US" sz="2000" spc="-1" strike="noStrike" u="sng">
                <a:solidFill>
                  <a:srgbClr val="ffffff"/>
                </a:solidFill>
                <a:uFillTx/>
                <a:latin typeface="Garamond"/>
              </a:rPr>
              <a:t>2,627,678</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1998 14.1%/ 3,169,219</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0 14.5%/ 3,353,633</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3 14.9%/ 3,547,995</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5 15.5%/ 3,764,664</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tal obesity percentage and population for Canada in 2007 16%/ 4,016,735</a:t>
            </a:r>
            <a:endParaRPr b="0" lang="en-US" sz="2000" spc="-1" strike="noStrike">
              <a:solidFill>
                <a:srgbClr val="ffffff"/>
              </a:solidFill>
              <a:latin typeface="Garamond"/>
            </a:endParaRPr>
          </a:p>
        </p:txBody>
      </p:sp>
      <p:sp>
        <p:nvSpPr>
          <p:cNvPr id="988" name=""/>
          <p:cNvSpPr/>
          <p:nvPr/>
        </p:nvSpPr>
        <p:spPr>
          <a:xfrm>
            <a:off x="539640" y="5950080"/>
            <a:ext cx="80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esity rate increase from 1994-2009 33.9%/ 4,805,982</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9" name=""/>
          <p:cNvSpPr/>
          <p:nvPr/>
        </p:nvSpPr>
        <p:spPr>
          <a:xfrm>
            <a:off x="1547640" y="981000"/>
            <a:ext cx="597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chart showing the increase of diabetes in our population from 1994-2005</a:t>
            </a:r>
            <a:endParaRPr b="0" lang="en-US" sz="1800" spc="-1" strike="noStrike">
              <a:solidFill>
                <a:srgbClr val="eaeaea"/>
              </a:solidFill>
              <a:latin typeface="Arial"/>
            </a:endParaRPr>
          </a:p>
        </p:txBody>
      </p:sp>
      <p:graphicFrame>
        <p:nvGraphicFramePr>
          <p:cNvPr id="990" name=""/>
          <p:cNvGraphicFramePr/>
          <p:nvPr/>
        </p:nvGraphicFramePr>
        <p:xfrm>
          <a:off x="395280" y="1916280"/>
          <a:ext cx="8424720" cy="4465440"/>
        </p:xfrm>
        <a:graphic>
          <a:graphicData uri="http://schemas.openxmlformats.org/presentationml/2006/ole">
            <p:oleObj progId="Excel.Sheet.12" r:id="rId1" spid="">
              <p:embed/>
              <p:pic>
                <p:nvPicPr>
                  <p:cNvPr id="991" name="" descr=""/>
                  <p:cNvPicPr/>
                  <p:nvPr/>
                </p:nvPicPr>
                <p:blipFill>
                  <a:blip r:embed="rId2"/>
                  <a:stretch/>
                </p:blipFill>
                <p:spPr>
                  <a:xfrm>
                    <a:off x="395280" y="1916280"/>
                    <a:ext cx="8424720" cy="44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992" name=""/>
          <p:cNvGraphicFramePr/>
          <p:nvPr/>
        </p:nvGraphicFramePr>
        <p:xfrm>
          <a:off x="468360" y="2781360"/>
          <a:ext cx="8229600" cy="3817800"/>
        </p:xfrm>
        <a:graphic>
          <a:graphicData uri="http://schemas.openxmlformats.org/presentationml/2006/ole">
            <p:oleObj progId="Excel.Sheet.12" r:id="rId1" spid="">
              <p:embed/>
              <p:pic>
                <p:nvPicPr>
                  <p:cNvPr id="993" name="" descr=""/>
                  <p:cNvPicPr/>
                  <p:nvPr/>
                </p:nvPicPr>
                <p:blipFill>
                  <a:blip r:embed="rId2"/>
                  <a:stretch/>
                </p:blipFill>
                <p:spPr>
                  <a:xfrm>
                    <a:off x="468360" y="2781360"/>
                    <a:ext cx="8229600" cy="3817800"/>
                  </a:xfrm>
                  <a:prstGeom prst="rect">
                    <a:avLst/>
                  </a:prstGeom>
                  <a:ln w="0">
                    <a:noFill/>
                  </a:ln>
                </p:spPr>
              </p:pic>
            </p:oleObj>
          </a:graphicData>
        </a:graphic>
      </p:graphicFrame>
      <p:sp>
        <p:nvSpPr>
          <p:cNvPr id="994" name=""/>
          <p:cNvSpPr/>
          <p:nvPr/>
        </p:nvSpPr>
        <p:spPr>
          <a:xfrm>
            <a:off x="1476360" y="620640"/>
            <a:ext cx="66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chart showing the increase of obesity in our population from 1994-2007</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995" name=""/>
          <p:cNvGraphicFramePr/>
          <p:nvPr/>
        </p:nvGraphicFramePr>
        <p:xfrm>
          <a:off x="468360" y="333360"/>
          <a:ext cx="8229600" cy="3817800"/>
        </p:xfrm>
        <a:graphic>
          <a:graphicData uri="http://schemas.openxmlformats.org/presentationml/2006/ole">
            <p:oleObj progId="Excel.Sheet.12" r:id="rId1" spid="">
              <p:embed/>
              <p:pic>
                <p:nvPicPr>
                  <p:cNvPr id="996" name="" descr=""/>
                  <p:cNvPicPr/>
                  <p:nvPr/>
                </p:nvPicPr>
                <p:blipFill>
                  <a:blip r:embed="rId2"/>
                  <a:stretch/>
                </p:blipFill>
                <p:spPr>
                  <a:xfrm>
                    <a:off x="468360" y="333360"/>
                    <a:ext cx="8229600" cy="3817800"/>
                  </a:xfrm>
                  <a:prstGeom prst="rect">
                    <a:avLst/>
                  </a:prstGeom>
                  <a:ln w="0">
                    <a:noFill/>
                  </a:ln>
                </p:spPr>
              </p:pic>
            </p:oleObj>
          </a:graphicData>
        </a:graphic>
      </p:graphicFrame>
      <p:sp>
        <p:nvSpPr>
          <p:cNvPr id="997" name=""/>
          <p:cNvSpPr/>
          <p:nvPr/>
        </p:nvSpPr>
        <p:spPr>
          <a:xfrm>
            <a:off x="755640" y="501336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chart shows the last two variables together, while the obesity rates are much higher they still seem to be rising at a close rate, that is why the correlation would almost fit ether set of dat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57:34Z</dcterms:created>
  <dc:creator>Cody Eckart</dc:creator>
  <dc:description/>
  <dc:language>en-US</dc:language>
  <cp:lastModifiedBy>Cody Eckart</cp:lastModifiedBy>
  <dcterms:modified xsi:type="dcterms:W3CDTF">2011-01-09T18:37:57Z</dcterms:modified>
  <cp:revision>2</cp:revision>
  <dc:subject/>
  <dc:title>Obesity relation to diabetes</dc:title>
</cp:coreProperties>
</file>